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FF0-C9A2-467D-8195-7B305516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AC1-1B5A-419C-892B-321C6CD7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A0B-AAC2-4934-8F5E-8DD745AA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875-4D00-4A95-89C4-DF476788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CC3AE-1BFC-4A56-BEE3-0A99DC41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8A525-EEA6-449D-9DCF-F7B78693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BD97C-BFF0-4B26-A0BB-7365CD6E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85BAF-A83F-46FE-A1EB-AE823281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ABCB0-01F5-48A6-AD61-B9397108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F7F1E-B02A-4035-AC3D-19053273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49575-7FAC-4851-9627-9BFD2AC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198-99E2-4032-BCF3-E5D98669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F1266-B7E5-464F-AEC3-86C8DBE7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F709F-9A06-4F26-8E82-0F29BA54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6C357-8B93-4C69-9C89-068B5884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37D45-1CE9-48C0-AC13-8F3E4FDC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FE9C8-5D08-46E8-9E0F-F80F25AD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813-DA81-4034-A826-F4C34098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9AC-39DA-4B6A-B72C-1D7F1C1E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F49-04D8-4E7A-8028-60C39AE7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409-FC3B-4F21-A827-825B8D54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16E-8EBE-4B72-ACA4-C769C361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176-7C77-4D3E-977E-B264F872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220-DC62-4F5F-A1C6-2F076688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B656-7005-4DF4-8BCB-803223445C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4F59-AA23-429C-A8A9-163F74192D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51280" y="587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1052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551664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0"/>
            <a:ext cx="8093160" cy="6860160"/>
            <a:chOff x="755640" y="0"/>
            <a:chExt cx="8093160" cy="6860160"/>
          </a:xfrm>
        </p:grpSpPr>
        <p:grpSp>
          <p:nvGrpSpPr>
            <p:cNvPr id="86" name=""/>
            <p:cNvGrpSpPr/>
            <p:nvPr/>
          </p:nvGrpSpPr>
          <p:grpSpPr>
            <a:xfrm>
              <a:off x="755640" y="0"/>
              <a:ext cx="8093160" cy="6860160"/>
              <a:chOff x="755640" y="0"/>
              <a:chExt cx="8093160" cy="68601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755640" y="0"/>
                <a:ext cx="8093160" cy="6860160"/>
                <a:chOff x="755640" y="0"/>
                <a:chExt cx="8093160" cy="6860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203640" y="0"/>
                  <a:ext cx="2944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 u="sng">
                      <a:solidFill>
                        <a:srgbClr val="ffff00"/>
                      </a:solidFill>
                      <a:uFillTx/>
                      <a:latin typeface="Times New Roman"/>
                    </a:rPr>
                    <a:t>PROBLEMA I.6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55640" y="5084640"/>
                  <a:ext cx="6624720" cy="15825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lang="es-E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= (</a:t>
                  </a:r>
                  <a:r>
                    <a:rPr b="1" lang="el-G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π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. D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) / 4 = 176,7 mm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e = 0,2 / 100 . 50 = 0,1 mm         R</a:t>
                  </a:r>
                  <a:r>
                    <a:rPr b="1" lang="es-E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= 174 KN / 176,7 mm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= 0.98 KN / mm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s-E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= 233 / 176,7 = 1,32 KN / mm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A = (L – L</a:t>
                  </a:r>
                  <a:r>
                    <a:rPr b="1" lang="es-E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) / L</a:t>
                  </a:r>
                  <a:r>
                    <a:rPr b="1" lang="es-E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= (58 – 50) / 50 = 0,16 (16 %)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588000" y="6553080"/>
                  <a:ext cx="2260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Metalotecnia. E.T.S.I.M.O.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2843280" y="620640"/>
                  <a:ext cx="3241080" cy="4320720"/>
                  <a:chOff x="2843280" y="620640"/>
                  <a:chExt cx="3241080" cy="4320720"/>
                </a:xfrm>
              </p:grpSpPr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620640"/>
                    <a:ext cx="3241080" cy="43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 flipH="1">
                    <a:off x="3254400" y="2059920"/>
                    <a:ext cx="156240" cy="2729520"/>
                  </a:xfrm>
                  <a:prstGeom prst="line">
                    <a:avLst/>
                  </a:prstGeom>
                  <a:ln w="1908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>
                    <a:off x="3177000" y="2211840"/>
                    <a:ext cx="311040" cy="0"/>
                  </a:xfrm>
                  <a:prstGeom prst="line">
                    <a:avLst/>
                  </a:prstGeom>
                  <a:ln w="1908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5" name=""/>
              <p:cNvSpPr/>
              <p:nvPr/>
            </p:nvSpPr>
            <p:spPr>
              <a:xfrm>
                <a:off x="3203640" y="56610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3132000" y="1484280"/>
              <a:ext cx="2160720" cy="0"/>
            </a:xfrm>
            <a:prstGeom prst="line">
              <a:avLst/>
            </a:prstGeom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9:54:48Z</dcterms:created>
  <dc:creator>José Ovidio García</dc:creator>
  <dc:description/>
  <dc:language>en-US</dc:language>
  <cp:lastModifiedBy>José Ovidio García</cp:lastModifiedBy>
  <dcterms:modified xsi:type="dcterms:W3CDTF">2005-07-14T18:18:48Z</dcterms:modified>
  <cp:revision>12</cp:revision>
  <dc:subject/>
  <dc:title>Diapositiva 1</dc:title>
</cp:coreProperties>
</file>